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FB0-D8A1-4191-A563-0D21BC0D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DA51-D399-4DE5-A388-9D7E22DD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F149-90F3-4DD3-A00D-B54A24AF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0B2-41CF-4B85-8277-DBBA4A6F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0F66-D20D-48CA-87A7-4786D98C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9DA5-94B7-48F9-8B96-9AF4CB37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FFA3-DAD8-403B-8B35-E931A16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109-C11C-49CF-8182-552BEEEA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09D-8F33-4292-B682-7859DBF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27A-B4EC-4534-944F-1A723130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1E8C-833C-4F57-BE49-E72E99F5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8B7-D7F1-4629-AF3D-C03B3F5E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93BB-5E7B-4603-A9C2-7F46EEE9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2EAA-6A7C-4E09-9D1E-82D69BF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954F-4FD3-468A-9461-978DEBE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1448-DA70-4201-BAC7-842F29A9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97EE-FEBC-46EA-B2B7-183135B5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EDD-2E6D-4FF9-AACE-23C9891F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18E-6613-4F04-AA7E-B58A028A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C8CA-F9FD-40C6-81B4-CCB67B6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9B62-D96B-4F31-B0EB-85ECB175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859-34B8-4865-AF03-ECD3DED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4DC-8EC9-4D35-9A30-198E876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DD5-2E81-4576-8C70-C9B51F9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8101-7263-4AA5-8E81-E586F0DDA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F7B1-0A5C-4E36-BFA5-EFBB48C67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0" y="-360"/>
            <a:ext cx="83804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Arial Narrow"/>
              </a:rPr>
              <a:t>International Wall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. Mood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ulpture Class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2517840" cy="3341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18480" y="629460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 Sarah Anders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Arial Narrow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800000"/>
                </a:solidFill>
                <a:latin typeface="Arial Narrow"/>
              </a:rPr>
              <a:t>In the beginning……</a:t>
            </a:r>
            <a:br>
              <a:rPr sz="4400"/>
            </a:b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as just Ms. Moody’s BIG id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ndred or so bo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08840" y="1981080"/>
            <a:ext cx="2641320" cy="1981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5880" y="4343400"/>
            <a:ext cx="26416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800000"/>
                </a:solidFill>
                <a:latin typeface="Arial Narrow"/>
              </a:rPr>
              <a:t>Objective</a:t>
            </a:r>
            <a:r>
              <a:rPr b="1" lang="en-US" sz="2800" spc="-1" strike="noStrike">
                <a:solidFill>
                  <a:srgbClr val="800000"/>
                </a:solidFill>
                <a:latin typeface="Arial Narrow"/>
              </a:rPr>
              <a:t>: 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800000"/>
                </a:solidFill>
                <a:latin typeface="Arial Narrow"/>
              </a:rPr>
              <a:t>Students were challenged to build a sculptural wall out of boxes and create a group design that communicated the environment of their culture.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tudents brainstormed and then completed research about the countries political, social and environmental aspects using the Culturegrams database in the libr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he research results were amazing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9144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The boxes were painted white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440" y="1371600"/>
            <a:ext cx="3371760" cy="4495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67280" y="1171440"/>
            <a:ext cx="2882880" cy="2162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05520" y="3809880"/>
            <a:ext cx="341604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The group designs were then enlarged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an transferred to the wall of boxes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47560" y="56800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zil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880" y="5715000"/>
            <a:ext cx="18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gypt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The backgrounds were painted and layers of cardboard were cut to add relief to the wall surfac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971800" cy="3962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523160" y="64008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ma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2680" y="5832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076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 Narrow"/>
              </a:rPr>
              <a:t>The walls are in progress…So stayed tuned for an upda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324160"/>
            <a:ext cx="678168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658680" y="5943600"/>
            <a:ext cx="13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00400" y="26668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8640" y="24382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24382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640080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00:36:34Z</dcterms:created>
  <dc:creator>Owner</dc:creator>
  <dc:description/>
  <dc:language>en-US</dc:language>
  <cp:lastModifiedBy>WCPSS</cp:lastModifiedBy>
  <dcterms:modified xsi:type="dcterms:W3CDTF">2011-04-01T14:36:32Z</dcterms:modified>
  <cp:revision>7</cp:revision>
  <dc:subject/>
  <dc:title>International Wa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